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BED4276-FEFF-4860-9BC9-70FF25DA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lcome and introductions – name, position, board 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47A-6CAE-421A-80ED-7E829FB3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344-B290-4AD5-91D2-8AA56F6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2C5-6AEF-45FC-BC88-24D7CE3E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4E7-2ACF-4600-B9E7-DD2D41E3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7C7-2BDF-44BD-A8AE-2DCF215A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DC7-3622-47CA-8928-C2B346AB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3097-C77A-4B89-A3E6-1940D97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6D7D-5407-4C32-B658-2A98966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379-7829-49DE-8802-465A09B5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01F-EF78-44D6-8EC6-23B78E4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9269-80D0-4B7F-8F08-803117B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1F2-EB09-449C-929F-093C9ED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863C-CCC3-4EF9-B2EC-F26368A1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96CE-93CD-4E53-9DD6-FFBABDF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ADD-F577-441F-8E1A-D68EA78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A3B0-0574-4403-80FC-8C82746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372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E32-EE6C-4692-8477-0C3DD3B3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A8A-0CCE-42AB-8E03-E7C930C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0F1-43E6-4733-A643-54F9553C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0D3-E295-46A3-B711-56D32FC3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392-EDEF-4956-AE9C-BF342871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FC3-E88B-4D24-8FED-23D8689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72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5EF-7C66-4715-AA7D-9DC31A8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72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A67-C13B-4CE3-9DCC-570B0B4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DEF3-C40E-4607-AB79-82A0F0F481EF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5F5-2329-48DA-849B-7519E5E6E937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69720"/>
            <a:ext cx="6840360" cy="142920"/>
          </a:xfrm>
          <a:prstGeom prst="rect">
            <a:avLst/>
          </a:prstGeom>
          <a:gradFill rotWithShape="0">
            <a:gsLst>
              <a:gs pos="0">
                <a:srgbClr val="3199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32720" y="77760"/>
            <a:ext cx="22939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862360" cy="53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d469b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3EF-E27E-4325-AEA0-A2C509CF367C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0440" y="5638680"/>
            <a:ext cx="2552760" cy="941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1599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Linear Growing Patterns &amp; Relations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ession 3</a:t>
            </a:r>
            <a:br>
              <a:rPr sz="4400"/>
            </a:b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2840" y="4055760"/>
            <a:ext cx="57150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Summer In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entury Gothic"/>
              </a:rPr>
              <a:t>August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Linda LoF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entury Gothic"/>
                <a:ea typeface="Arial"/>
              </a:rPr>
              <a:t>Irene McEv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0440" y="560160"/>
            <a:ext cx="82072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Patterning &amp; Linear </a:t>
            </a:r>
            <a:br>
              <a:rPr sz="4400"/>
            </a:b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Relations Manipulatives &amp; Technology Carousel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60" y="293220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b78c"/>
                </a:solidFill>
                <a:latin typeface="Century Gothic"/>
              </a:rPr>
              <a:t>Explore these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4800" y="3470400"/>
            <a:ext cx="8132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A:  TI-Nspir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F:   Square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B:  CB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G:  Growing Pattern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C:  Gizmo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H:  Real-lif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D:  CLIP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I:  Matching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2576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ation E:   GS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tation J:  Algebra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2400" y="2378160"/>
            <a:ext cx="88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do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connect to Big Ideas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Learning Goals?</a:t>
            </a:r>
            <a:r>
              <a:rPr b="1" lang="en-C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0840" y="2787480"/>
            <a:ext cx="3882960" cy="379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5440" y="1039680"/>
            <a:ext cx="8475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at Mathematical Processes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did you experience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when answering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the tas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7472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th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help students over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stumbling bloc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3800" y="2376360"/>
            <a:ext cx="755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How can it be used to </a:t>
            </a:r>
            <a:br>
              <a:rPr sz="4400"/>
            </a:b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prom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 </a:t>
            </a:r>
            <a:r>
              <a:rPr b="1" i="1" lang="en-CA" sz="4400" spc="-1" strike="noStrike">
                <a:solidFill>
                  <a:srgbClr val="4c1a74"/>
                </a:solidFill>
                <a:latin typeface="Century Gothic"/>
              </a:rPr>
              <a:t>math discou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218960"/>
            <a:ext cx="8480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c1a74"/>
                </a:solidFill>
                <a:latin typeface="Century Gothic"/>
              </a:rPr>
              <a:t>Important Book</a:t>
            </a:r>
            <a:endParaRPr b="0" lang="en-US" sz="4400" spc="-1" strike="noStrike">
              <a:solidFill>
                <a:srgbClr val="0d46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Entries on a page(s) of your ch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ich activities would I like to integrate into my program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entury Gothic"/>
              </a:rPr>
              <a:t>What do I need to learn more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1:11:23Z</dcterms:created>
  <dc:creator>Myrna Ingalls</dc:creator>
  <dc:description/>
  <dc:language>en-US</dc:language>
  <cp:lastModifiedBy>LoFaro Linda</cp:lastModifiedBy>
  <dcterms:modified xsi:type="dcterms:W3CDTF">2009-08-21T13:41:28Z</dcterms:modified>
  <cp:revision>151</cp:revision>
  <dc:subject/>
  <dc:title>Math GAINS 2008-09</dc:title>
</cp:coreProperties>
</file>